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9A7-1560-4678-AB64-EC075ADD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B30-E788-446C-9708-DD6FCF7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790-1DF7-4A8E-9993-A0BD00FD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C1F-20E6-4C07-B64D-5CA5D8BE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A77-CA16-448C-935B-580441E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96A-7D31-46D0-BEF5-E7497AC5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417-86D7-411C-B04E-012DE998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2E1-29D2-442C-B637-C2F9E31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8F0-BDD0-4680-BD3E-82CCC52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CEC-BC72-4D48-9476-BD5EB8A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C00-C34F-4E46-B574-C5D286D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B0C-6107-481A-81B4-71196AB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9910-0FAB-43B1-9FEC-E78A161C4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Divided Kingdom, Part 2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“Till There Was No Remedy”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arter 7, Lesson 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 25:26-28; 26:1-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14:18-22; 15: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1-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ntroduction to Amos...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Judah and Israel prospered at this time and expanded their terri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for being right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being shown 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adiah and Joel came ear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os - warns Israel that judgment is inevi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rned Judah to shape up, or e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2971800"/>
            <a:ext cx="9903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Death of Amaziah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Kings 14:18-22; 2 Chron. 25:26-28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 of Amaz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had turned away from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servants turned on him, slew him, and buried him in Jerusa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Reign of Uzziah (Azariah)</a:t>
            </a:r>
            <a:br>
              <a:rPr sz="40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Kings 15:1-3; 2 Chron. 26:1-3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(Azariah), Amaziah’s son, mad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 years 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d 52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7th year of the 41-year reign of Jeroboam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 of Uzz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for most of his re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places were not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olatry continued as it had under his f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chariah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id to Uzzia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phet/counse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known about h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’s Character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2 Kings 15:4; 2 Chron. 26:4-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 (Azariah) Prospers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6:6-8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successful in w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e down the walls of Gath, Jabneh, Ashd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 against the Philistines, Arabians and Mehunims, Ammon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ored Elath (Eloth), a port at the head of the Gulf of Aqab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Chron. 26: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’s (Azariah) Defenses 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6:9-10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’s building and farm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towers in Jerusa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towers and dug wells in the low country and in the pl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had a lot of cattle and viney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’s Military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6:11-15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’s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7,500 trained figh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l equipped with weapons and arm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engines of warfare to shoot arrows and 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was blessed by God and his fame went out far and w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os prophes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Next les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1:29:00Z</dcterms:created>
  <dc:creator>Don Vines</dc:creator>
  <dc:description/>
  <dc:language>en-US</dc:language>
  <cp:lastModifiedBy>Frank D Vines</cp:lastModifiedBy>
  <dcterms:modified xsi:type="dcterms:W3CDTF">2006-01-08T04:08:39Z</dcterms:modified>
  <cp:revision>20</cp:revision>
  <dc:subject/>
  <dc:title>The Divided Kingdom, Part 2 “Till There Was No Remedy”</dc:title>
</cp:coreProperties>
</file>